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AC1-A411-4AEA-8D9B-1EFF752B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D87-21B9-4BAB-B242-9F45C5E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A3F-CEE5-48FD-B0DC-DBBE3D6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EA8-1E55-48DD-AA6A-5209BBA8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8E3-9056-44A1-AFDF-1D3370F4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514-053D-4C8C-9EB1-314CA7EF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B84-B136-48CF-A31A-2F3C0A9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35F-F4CC-4323-B0A0-F9962F2C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9B7-D5D7-485F-B882-C0DCC76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876-CB35-4E01-AC10-F4106FB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6ED-B396-4DE1-A589-E3C7816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445-C65B-423B-921A-3C44B72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EE0-5A3F-4870-B945-769B1FA7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-7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лое, румяно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расту на ветке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ят меня взрослы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маленькие д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240360" cy="288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2663640" cy="244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20360" y="1557000"/>
            <a:ext cx="30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, детки, но не м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городе - не бур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й лакомый синь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ад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оранжевой кож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мячик похожи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 центре не пу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очно и вкус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59092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3130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203640" cy="201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879640" cy="24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124000" y="3860640"/>
            <a:ext cx="309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ГОЛУ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2418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544840" cy="287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И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408480" cy="259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981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03640" y="4508640"/>
            <a:ext cx="3097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ФИОЛЕТ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056120" cy="259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29149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56:36Z</dcterms:created>
  <dc:creator>AUD312</dc:creator>
  <dc:description/>
  <dc:language>en-US</dc:language>
  <cp:lastModifiedBy>AUD312</cp:lastModifiedBy>
  <dcterms:modified xsi:type="dcterms:W3CDTF">2012-04-12T05:47:10Z</dcterms:modified>
  <cp:revision>2</cp:revision>
  <dc:subject/>
  <dc:title>Слайд 1</dc:title>
</cp:coreProperties>
</file>